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6C0-2DA2-406D-B24C-3332DCFC4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2DF-0C42-4EF4-A77D-99A4805ED8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523-DB44-4216-AACD-BC38CCCA944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228C-FA3B-409D-BBC8-74701C50D6F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0CA-6BB7-41D0-8DE4-E89B4E99CDD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E5F-DAAA-40CA-8D50-F9D10050DB2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D2A-8069-403D-953F-71D022A10A4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E00D-D64D-43B2-9B4E-E30FE6E2D56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FFB-8857-41B9-9897-556B7C8BF36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EC84-5C34-43B6-8176-3F0E6A785A0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AEB8-99BB-4CBE-B590-051E7F9D3D0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267F-1BB6-44BF-84CD-3780D471418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6B2-9CB2-4373-94A4-EF04EDAB960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088-434C-44FE-9794-8144A926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15E-EB2F-4966-9CA6-DE75F8A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865-D8B6-4C5E-B9AD-00824FEC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CD1-632E-4E97-BF33-3A9FCDA4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07A6-ADCB-41B3-8FB3-CB90CC6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AD20-8881-46B9-BAA3-19D070F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9837-B545-402F-A09F-BD4C2312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086-B92B-4E40-BE5C-2C1321AB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7C03-6BAE-40B4-B47B-8D8FE653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8344-4FF9-4121-9A88-4DD2DA1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DC7-9468-437F-9DBA-E2CC5BC9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A72-90F2-43D9-B53A-EACC616F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543-8288-4515-9BD4-EA4EF29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725B-D5D8-4DED-860D-E1B258A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8C23-5117-4B74-BBAA-64DE81F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ECC-9231-47E6-B80C-D0483F1D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A493-37B2-4310-9CD5-3BA4EE4A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069-8E9D-40DA-9918-B0B50EA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0D3-DA07-48F3-B60F-8EDDAC12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0B7-877B-4C67-B04C-F5237003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509-1B29-477E-BC7E-E1371027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7B9-4734-4DD6-9AA0-4CEC6CA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5F4-5DC3-4A20-97FE-94E79A7F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8E3-F4AC-46E2-A051-EA68CF9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110E-0E7D-4F96-8850-506BC3F38C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5F0-64BB-40D5-B37A-662DF9D01240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5-26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1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712800"/>
          <a:ext cx="8785440" cy="550548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2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927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082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2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43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Участие в выставках и конференциях в 2010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, всего –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eaeaea"/>
                </a:solidFill>
                <a:latin typeface="Bookman Old Style"/>
              </a:rPr>
              <a:t>- 8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Экспонаты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, представленные на выставках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- 8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-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2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31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Bookman Old Style"/>
              </a:rPr>
              <a:t>в том числе  на базе вуза -  </a:t>
            </a:r>
            <a:r>
              <a:rPr b="0" lang="en-US" sz="1600" spc="-1" strike="noStrike">
                <a:solidFill>
                  <a:srgbClr val="eaeaea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–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136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Издательская деятельность в 2010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4360" y="836640"/>
          <a:ext cx="7991280" cy="4976640"/>
        </p:xfrm>
        <a:graphic>
          <a:graphicData uri="http://schemas.openxmlformats.org/drawingml/2006/table">
            <a:tbl>
              <a:tblPr/>
              <a:tblGrid>
                <a:gridCol w="5937120"/>
                <a:gridCol w="20541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з них изданные вуз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международных научных конференций, симпозиум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5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5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1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Вступительное слово, ректор, Л.Н. Карли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Научная деятельность университета в 20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10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 году»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проректор по НР, В.Н. Воробь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Современные изменение климата Санкт-Петербурга в связи с колебаниями атмосферной циркуляции в атлантико-европейском секторе Северного полушария», проф. А.И. Угрюмов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Проблемы и методы обеспечения информационной безопасности»,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проф.  Т.М. Татарник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Долгосрочная оценка климатических изменений многолетнего стока Арктической зоны России», докторант Е.В.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Гайдук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Оценка экстремальных уровней загрязнения речных вод», проф. Шелутко В.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Коммуникации и эффективное партнерство в инновационной сфере», проф. И.П. Фир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Некоторые результаты исследования природной среды на основе синергетического анализа данных дистанционного зондирования из Космоса.» доцент Сычев В.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eaeaea"/>
                </a:solidFill>
                <a:latin typeface="Bookman Old Style"/>
              </a:rPr>
              <a:t>10</a:t>
            </a: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549360"/>
          <a:ext cx="8232840" cy="5775120"/>
        </p:xfrm>
        <a:graphic>
          <a:graphicData uri="http://schemas.openxmlformats.org/drawingml/2006/table">
            <a:tbl>
              <a:tblPr/>
              <a:tblGrid>
                <a:gridCol w="441000"/>
                <a:gridCol w="6535800"/>
                <a:gridCol w="1040760"/>
                <a:gridCol w="2160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74080" cy="7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в 2009/2010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1341360"/>
          <a:ext cx="9036000" cy="438948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762120"/>
                <a:gridCol w="990720"/>
                <a:gridCol w="1218960"/>
                <a:gridCol w="1339920"/>
              </a:tblGrid>
              <a:tr h="38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 86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6 824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7 220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4 539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44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78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 1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9 5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037,9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786,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 94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36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269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19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3 671,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AutoShape 448"/>
          <p:cNvSpPr/>
          <p:nvPr/>
        </p:nvSpPr>
        <p:spPr>
          <a:xfrm flipH="1">
            <a:off x="899892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451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88"/>
          <p:cNvSpPr/>
          <p:nvPr/>
        </p:nvSpPr>
        <p:spPr>
          <a:xfrm>
            <a:off x="9001080" y="3357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587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672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673"/>
          <p:cNvSpPr/>
          <p:nvPr/>
        </p:nvSpPr>
        <p:spPr>
          <a:xfrm flipH="1">
            <a:off x="6371640" y="2852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AutoShape 674"/>
          <p:cNvSpPr/>
          <p:nvPr/>
        </p:nvSpPr>
        <p:spPr>
          <a:xfrm flipH="1">
            <a:off x="8998920" y="2852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AutoShape 675"/>
          <p:cNvSpPr/>
          <p:nvPr/>
        </p:nvSpPr>
        <p:spPr>
          <a:xfrm>
            <a:off x="6370560" y="335772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AutoShape 678"/>
          <p:cNvSpPr/>
          <p:nvPr/>
        </p:nvSpPr>
        <p:spPr>
          <a:xfrm>
            <a:off x="8999640" y="3789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679"/>
          <p:cNvSpPr/>
          <p:nvPr/>
        </p:nvSpPr>
        <p:spPr>
          <a:xfrm flipH="1">
            <a:off x="6371640" y="3789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680"/>
          <p:cNvSpPr/>
          <p:nvPr/>
        </p:nvSpPr>
        <p:spPr>
          <a:xfrm flipH="1">
            <a:off x="8998920" y="4221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681"/>
          <p:cNvSpPr/>
          <p:nvPr/>
        </p:nvSpPr>
        <p:spPr>
          <a:xfrm>
            <a:off x="6372360" y="4653000"/>
            <a:ext cx="145800" cy="287280"/>
          </a:xfrm>
          <a:prstGeom prst="downArrow">
            <a:avLst>
              <a:gd name="adj1" fmla="val 50000"/>
              <a:gd name="adj2" fmla="val 49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AutoShape 682"/>
          <p:cNvSpPr/>
          <p:nvPr/>
        </p:nvSpPr>
        <p:spPr>
          <a:xfrm>
            <a:off x="8997840" y="465300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683"/>
          <p:cNvSpPr/>
          <p:nvPr/>
        </p:nvSpPr>
        <p:spPr>
          <a:xfrm>
            <a:off x="6372360" y="5013360"/>
            <a:ext cx="145800" cy="287280"/>
          </a:xfrm>
          <a:prstGeom prst="downArrow">
            <a:avLst>
              <a:gd name="adj1" fmla="val 50000"/>
              <a:gd name="adj2" fmla="val 49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684"/>
          <p:cNvSpPr/>
          <p:nvPr/>
        </p:nvSpPr>
        <p:spPr>
          <a:xfrm>
            <a:off x="8997840" y="501336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687"/>
          <p:cNvSpPr/>
          <p:nvPr/>
        </p:nvSpPr>
        <p:spPr>
          <a:xfrm flipH="1">
            <a:off x="899892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688"/>
          <p:cNvSpPr/>
          <p:nvPr/>
        </p:nvSpPr>
        <p:spPr>
          <a:xfrm flipH="1">
            <a:off x="637164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796"/>
          <p:cNvSpPr/>
          <p:nvPr/>
        </p:nvSpPr>
        <p:spPr>
          <a:xfrm flipH="1">
            <a:off x="6371640" y="4221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39640" y="333360"/>
          <a:ext cx="8226360" cy="60660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целевых программ в 2009 – 2010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Object 312"/>
          <p:cNvGraphicFramePr/>
          <p:nvPr/>
        </p:nvGraphicFramePr>
        <p:xfrm>
          <a:off x="752400" y="1649520"/>
          <a:ext cx="8353440" cy="52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649520"/>
                    <a:ext cx="835344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 в 2009 ― 2010 г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920" y="907920"/>
          <a:ext cx="9001080" cy="5616720"/>
        </p:xfrm>
        <a:graphic>
          <a:graphicData uri="http://schemas.openxmlformats.org/drawingml/2006/table">
            <a:tbl>
              <a:tblPr/>
              <a:tblGrid>
                <a:gridCol w="2736720"/>
                <a:gridCol w="1319400"/>
                <a:gridCol w="1525680"/>
                <a:gridCol w="1265040"/>
                <a:gridCol w="2154240"/>
              </a:tblGrid>
              <a:tr h="3556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10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 227.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975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588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53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1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 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2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- Морской              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63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AutoShape 986"/>
          <p:cNvSpPr/>
          <p:nvPr/>
        </p:nvSpPr>
        <p:spPr>
          <a:xfrm>
            <a:off x="665964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994"/>
          <p:cNvSpPr/>
          <p:nvPr/>
        </p:nvSpPr>
        <p:spPr>
          <a:xfrm>
            <a:off x="6659640" y="2781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1005"/>
          <p:cNvSpPr/>
          <p:nvPr/>
        </p:nvSpPr>
        <p:spPr>
          <a:xfrm>
            <a:off x="6659640" y="1989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1006"/>
          <p:cNvSpPr/>
          <p:nvPr/>
        </p:nvSpPr>
        <p:spPr>
          <a:xfrm>
            <a:off x="874872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AutoShape 1087"/>
          <p:cNvSpPr/>
          <p:nvPr/>
        </p:nvSpPr>
        <p:spPr>
          <a:xfrm>
            <a:off x="874872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1092"/>
          <p:cNvSpPr/>
          <p:nvPr/>
        </p:nvSpPr>
        <p:spPr>
          <a:xfrm>
            <a:off x="665964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1095"/>
          <p:cNvSpPr/>
          <p:nvPr/>
        </p:nvSpPr>
        <p:spPr>
          <a:xfrm>
            <a:off x="6659640" y="501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1098"/>
          <p:cNvSpPr/>
          <p:nvPr/>
        </p:nvSpPr>
        <p:spPr>
          <a:xfrm>
            <a:off x="874872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1099"/>
          <p:cNvSpPr/>
          <p:nvPr/>
        </p:nvSpPr>
        <p:spPr>
          <a:xfrm>
            <a:off x="665964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AutoShape 1100"/>
          <p:cNvSpPr/>
          <p:nvPr/>
        </p:nvSpPr>
        <p:spPr>
          <a:xfrm>
            <a:off x="874872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AutoShape 1102"/>
          <p:cNvSpPr/>
          <p:nvPr/>
        </p:nvSpPr>
        <p:spPr>
          <a:xfrm>
            <a:off x="8748720" y="5516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1103"/>
          <p:cNvSpPr/>
          <p:nvPr/>
        </p:nvSpPr>
        <p:spPr>
          <a:xfrm>
            <a:off x="8748720" y="2781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AutoShape 1104"/>
          <p:cNvSpPr/>
          <p:nvPr/>
        </p:nvSpPr>
        <p:spPr>
          <a:xfrm>
            <a:off x="6659640" y="3357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AutoShape 1105"/>
          <p:cNvSpPr/>
          <p:nvPr/>
        </p:nvSpPr>
        <p:spPr>
          <a:xfrm>
            <a:off x="8748720" y="3357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1106"/>
          <p:cNvSpPr/>
          <p:nvPr/>
        </p:nvSpPr>
        <p:spPr>
          <a:xfrm>
            <a:off x="874872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AutoShape 1109"/>
          <p:cNvSpPr/>
          <p:nvPr/>
        </p:nvSpPr>
        <p:spPr>
          <a:xfrm>
            <a:off x="8748720" y="458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AutoShape 1111"/>
          <p:cNvSpPr/>
          <p:nvPr/>
        </p:nvSpPr>
        <p:spPr>
          <a:xfrm>
            <a:off x="6659640" y="4508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Bookman Old Style"/>
              </a:rPr>
              <a:t>Сведения по НИР за 2010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68360" y="1052640"/>
          <a:ext cx="8424720" cy="517500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89080"/>
                <a:gridCol w="647640"/>
                <a:gridCol w="287280"/>
                <a:gridCol w="574560"/>
                <a:gridCol w="289080"/>
                <a:gridCol w="684000"/>
                <a:gridCol w="179640"/>
                <a:gridCol w="649080"/>
                <a:gridCol w="287280"/>
                <a:gridCol w="646200"/>
                <a:gridCol w="505080"/>
                <a:gridCol w="936360"/>
              </a:tblGrid>
              <a:tr h="86328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 98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8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91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 227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 67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97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93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56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00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628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5 88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 352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8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 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535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7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7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3 35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864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3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221.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 т.ч.:   Морской институт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ГЭИ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 579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05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435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586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78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8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6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00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79280" y="1700280"/>
          <a:ext cx="8785440" cy="46749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 212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16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7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751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411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019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75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135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569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8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11-01-26T14:45:04Z</dcterms:modified>
  <cp:revision>487</cp:revision>
  <dc:subject/>
  <dc:title>Итоговая сессия Ученого совета РГГМУ</dc:title>
</cp:coreProperties>
</file>